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4617-FC09-49CB-8570-0540F3F5E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EEE2-D0FD-4D5E-8D4C-F3605A1D1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87C8-5867-4BB0-9231-BB1BDBF23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BC96-B28B-40D6-ACC8-A9DCEDF11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0547-265D-4D9D-B9E8-670B21F4A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CBF8-01D4-4024-8F38-3F8D2C1D5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042A-B327-4F8E-90BB-969DFFAB2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4C1E-9822-41E4-B16F-3528BB2BC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95ED-8F90-4D6C-93FF-ACCE0CE3A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8712-CB21-435C-AB09-0CDF4475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512F-0FFA-4E75-8830-2CB690765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19EC-0F11-4A40-AC34-3FDE6550B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50216-1E3D-42A0-9A46-D9369C21E0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79280" y="1341360"/>
            <a:ext cx="8713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Monotype Corsiva"/>
              </a:rPr>
              <a:t>Результаты</a:t>
            </a:r>
            <a:r>
              <a:rPr b="1" lang="en-US" sz="4800" spc="-1" strike="noStrike">
                <a:solidFill>
                  <a:srgbClr val="0000ff"/>
                </a:solidFill>
                <a:latin typeface="Monotype Corsiva"/>
              </a:rPr>
              <a:t> </a:t>
            </a:r>
            <a:r>
              <a:rPr b="1" lang="ru-RU" sz="4800" spc="-1" strike="noStrike">
                <a:solidFill>
                  <a:srgbClr val="0000ff"/>
                </a:solidFill>
                <a:latin typeface="Monotype Corsiva"/>
              </a:rPr>
              <a:t>пробного</a:t>
            </a:r>
            <a:br>
              <a:rPr sz="4800"/>
            </a:br>
            <a:r>
              <a:rPr b="1" lang="ru-RU" sz="4800" spc="-1" strike="noStrike">
                <a:solidFill>
                  <a:srgbClr val="0000ff"/>
                </a:solidFill>
                <a:latin typeface="Monotype Corsiva"/>
              </a:rPr>
              <a:t> экзамена по математике                  в </a:t>
            </a: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11 </a:t>
            </a:r>
            <a:r>
              <a:rPr b="1" lang="ru-RU" sz="4800" spc="-1" strike="noStrike">
                <a:solidFill>
                  <a:srgbClr val="0000ff"/>
                </a:solidFill>
                <a:latin typeface="Monotype Corsiva"/>
              </a:rPr>
              <a:t>классе, проведенного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30 марта 20</a:t>
            </a:r>
            <a:r>
              <a:rPr b="1" lang="en-US" sz="4800" spc="-1" strike="noStrike">
                <a:solidFill>
                  <a:srgbClr val="ff0000"/>
                </a:solidFill>
                <a:latin typeface="Monotype Corsiva"/>
              </a:rPr>
              <a:t>2</a:t>
            </a: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2 го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Monotype Corsiva"/>
              </a:rPr>
              <a:t>(базовый уровень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4"/>
          <p:cNvSpPr/>
          <p:nvPr/>
        </p:nvSpPr>
        <p:spPr>
          <a:xfrm>
            <a:off x="-230760" y="115920"/>
            <a:ext cx="99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Результаты выполнения заданий по ОУ  (в 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08000" y="981000"/>
          <a:ext cx="8928000" cy="5616720"/>
        </p:xfrm>
        <a:graphic>
          <a:graphicData uri="http://schemas.openxmlformats.org/drawingml/2006/table">
            <a:tbl>
              <a:tblPr/>
              <a:tblGrid>
                <a:gridCol w="1917720"/>
                <a:gridCol w="555480"/>
                <a:gridCol w="565200"/>
                <a:gridCol w="612720"/>
                <a:gridCol w="554040"/>
                <a:gridCol w="555840"/>
                <a:gridCol w="618840"/>
                <a:gridCol w="749520"/>
                <a:gridCol w="749160"/>
                <a:gridCol w="747720"/>
                <a:gridCol w="638280"/>
                <a:gridCol w="663480"/>
              </a:tblGrid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рхнеуслонская шко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рхнеуслонская гимназ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тюшин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1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Не участвова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бережно-Моркваш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1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Не участвова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еланг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ктябрь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ул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рал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ольшемемин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11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Не участвова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2" name="Rectangle 969"/>
          <p:cNvSpPr/>
          <p:nvPr/>
        </p:nvSpPr>
        <p:spPr>
          <a:xfrm>
            <a:off x="334008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976"/>
          <p:cNvSpPr/>
          <p:nvPr/>
        </p:nvSpPr>
        <p:spPr>
          <a:xfrm>
            <a:off x="2987640" y="5950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4"/>
          <p:cNvSpPr/>
          <p:nvPr/>
        </p:nvSpPr>
        <p:spPr>
          <a:xfrm>
            <a:off x="539640" y="620640"/>
            <a:ext cx="82090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Monotype Corsiva"/>
              </a:rPr>
              <a:t>В пробном экзамен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Monotype Corsiva"/>
              </a:rPr>
              <a:t>по математике принял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Monotype Corsiva"/>
              </a:rPr>
              <a:t>участие </a:t>
            </a:r>
            <a:r>
              <a:rPr b="1" lang="en-US" sz="4800" spc="-1" strike="noStrike">
                <a:solidFill>
                  <a:srgbClr val="ff0000"/>
                </a:solidFill>
                <a:latin typeface="Monotype Corsiva"/>
              </a:rPr>
              <a:t>2</a:t>
            </a:r>
            <a:r>
              <a:rPr b="1" lang="tt-RU" sz="4800" spc="-1" strike="noStrike">
                <a:solidFill>
                  <a:srgbClr val="ff0000"/>
                </a:solidFill>
                <a:latin typeface="Monotype Corsiva"/>
              </a:rPr>
              <a:t>5</a:t>
            </a:r>
            <a:r>
              <a:rPr b="1" lang="ru-RU" sz="4800" spc="-1" strike="noStrike">
                <a:solidFill>
                  <a:srgbClr val="0000ff"/>
                </a:solidFill>
                <a:latin typeface="Monotype Corsiva"/>
              </a:rPr>
              <a:t> человек из </a:t>
            </a: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7</a:t>
            </a:r>
            <a:r>
              <a:rPr b="1" lang="ru-RU" sz="4800" spc="-1" strike="noStrike">
                <a:solidFill>
                  <a:srgbClr val="0000ff"/>
                </a:solidFill>
                <a:latin typeface="Monotype Corsiva"/>
              </a:rPr>
              <a:t> шко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Monotype Corsiva"/>
              </a:rPr>
              <a:t>Верхнеуслонского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Monotype Corsiva"/>
              </a:rPr>
              <a:t>муниципального райо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611280" y="1773360"/>
          <a:ext cx="8229600" cy="4897440"/>
        </p:xfrm>
        <a:graphic>
          <a:graphicData uri="http://schemas.openxmlformats.org/drawingml/2006/table">
            <a:tbl>
              <a:tblPr/>
              <a:tblGrid>
                <a:gridCol w="4319640"/>
                <a:gridCol w="3909960"/>
              </a:tblGrid>
              <a:tr h="79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вичный бал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стовый бал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т 0 до 6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балл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 бал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7 до 1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балл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бал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от 12 до 1</a:t>
                      </a:r>
                      <a:r>
                        <a:rPr b="1" lang="en-US" sz="2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6</a:t>
                      </a:r>
                      <a:r>
                        <a:rPr b="1" lang="ru-RU" sz="2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 балл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4 бал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от 17 до 21 бал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5 балл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Rectangle 57"/>
          <p:cNvSpPr/>
          <p:nvPr/>
        </p:nvSpPr>
        <p:spPr>
          <a:xfrm>
            <a:off x="108000" y="87480"/>
            <a:ext cx="8496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Monotype Corsiva"/>
              </a:rPr>
              <a:t>Соответстви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Monotype Corsiva"/>
              </a:rPr>
              <a:t>первичных и тестовых балл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3"/>
          <p:cNvSpPr/>
          <p:nvPr/>
        </p:nvSpPr>
        <p:spPr>
          <a:xfrm>
            <a:off x="324000" y="260280"/>
            <a:ext cx="84582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личество баллов, набранных учащимися 11 класса, распределилось следующим образо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24000" y="1484280"/>
          <a:ext cx="8424720" cy="3651120"/>
        </p:xfrm>
        <a:graphic>
          <a:graphicData uri="http://schemas.openxmlformats.org/drawingml/2006/table">
            <a:tbl>
              <a:tblPr/>
              <a:tblGrid>
                <a:gridCol w="4440240"/>
                <a:gridCol w="3984480"/>
              </a:tblGrid>
              <a:tr h="91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т 0 до 6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балл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учеников (24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7 до 1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балл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учеников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</a:t>
                      </a:r>
                      <a:r>
                        <a:rPr b="1" lang="tt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)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от 12 до 1</a:t>
                      </a:r>
                      <a:r>
                        <a:rPr b="1" lang="en-US" sz="2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6</a:t>
                      </a:r>
                      <a:r>
                        <a:rPr b="1" lang="ru-RU" sz="2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 балл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</a:t>
                      </a:r>
                      <a:r>
                        <a:rPr b="1" lang="tt-RU" sz="2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2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 учеников</a:t>
                      </a:r>
                      <a:r>
                        <a:rPr b="1" lang="en-US" sz="2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 (</a:t>
                      </a:r>
                      <a:r>
                        <a:rPr b="1" lang="ru-RU" sz="2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4</a:t>
                      </a:r>
                      <a:r>
                        <a:rPr b="1" lang="tt-RU" sz="2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от 17 до 21 бал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 ученик (4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Rectangle 35"/>
          <p:cNvSpPr/>
          <p:nvPr/>
        </p:nvSpPr>
        <p:spPr>
          <a:xfrm>
            <a:off x="468360" y="529920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 району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успеваемость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составила -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76%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качеств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знаний -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48%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304920" y="0"/>
            <a:ext cx="8839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Результаты экзамена по математике по общеобразовательным учреждени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1"/>
          <p:cNvSpPr/>
          <p:nvPr/>
        </p:nvSpPr>
        <p:spPr>
          <a:xfrm>
            <a:off x="2484360" y="6165720"/>
            <a:ext cx="511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Средний первичный балл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 району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10,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95280" y="1125360"/>
          <a:ext cx="8569440" cy="4822920"/>
        </p:xfrm>
        <a:graphic>
          <a:graphicData uri="http://schemas.openxmlformats.org/drawingml/2006/table">
            <a:tbl>
              <a:tblPr/>
              <a:tblGrid>
                <a:gridCol w="638280"/>
                <a:gridCol w="5091120"/>
                <a:gridCol w="2840040"/>
              </a:tblGrid>
              <a:tr h="640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образовательного учрежд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первичный бал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Верхнеуслонская </a:t>
                      </a:r>
                      <a:r>
                        <a:rPr b="1" lang="tt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а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3,</a:t>
                      </a:r>
                      <a:r>
                        <a:rPr b="1" lang="ru-RU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Верхнеуслонская гимназия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</a:t>
                      </a:r>
                      <a:r>
                        <a:rPr b="1" lang="tt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юшинская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е участвов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Набережно-Морквашская С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е участвов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Шеланговская С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1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Октябрьская С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14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Макуловская С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Коргузинская С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Кураловская С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Большемеминская С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е участвов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0" y="720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0" y="115920"/>
            <a:ext cx="914400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Количество   тестовых   баллов,                                                     набранных   учащимися  в  разрезе  шк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50920" y="981000"/>
          <a:ext cx="8569080" cy="5532480"/>
        </p:xfrm>
        <a:graphic>
          <a:graphicData uri="http://schemas.openxmlformats.org/drawingml/2006/table">
            <a:tbl>
              <a:tblPr/>
              <a:tblGrid>
                <a:gridCol w="4546440"/>
                <a:gridCol w="1262160"/>
                <a:gridCol w="689040"/>
                <a:gridCol w="690480"/>
                <a:gridCol w="692280"/>
                <a:gridCol w="688680"/>
              </a:tblGrid>
              <a:tr h="622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учащих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Верхнеуслонская школ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Верхнеуслонская гимнази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Матюшинс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е участвова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Набережно-Морквашс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е участвова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0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Шеланговс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Октябрь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Макуловс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Коргузинс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Кураловс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Большемеминс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е участвова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район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250920" y="1484280"/>
          <a:ext cx="8424720" cy="4748400"/>
        </p:xfrm>
        <a:graphic>
          <a:graphicData uri="http://schemas.openxmlformats.org/drawingml/2006/table">
            <a:tbl>
              <a:tblPr/>
              <a:tblGrid>
                <a:gridCol w="3671640"/>
                <a:gridCol w="1508400"/>
                <a:gridCol w="1755720"/>
                <a:gridCol w="1488960"/>
              </a:tblGrid>
              <a:tr h="922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аст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преодол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ро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ля н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одол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ро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Верхнеуслонская школа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БОУ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рхнеуслонская гимназ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БОУ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тюшинская СОШ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е участвова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БОУ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бережно-Морквашская СОШ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е участвова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3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БОУ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еланговская СОШ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БОУ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ктябрьская СОШ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БОУ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уловская СОШ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БОУ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ргузинская СОШ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БОУ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раловская СОШ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БОУ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ольшемеминская СОШ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е участвова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5" name="Text Box 84"/>
          <p:cNvSpPr/>
          <p:nvPr/>
        </p:nvSpPr>
        <p:spPr>
          <a:xfrm>
            <a:off x="179280" y="404640"/>
            <a:ext cx="8642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Monotype Corsiva"/>
              </a:rPr>
              <a:t>Статистика в разрезе общеобразовательных </a:t>
            </a:r>
            <a:r>
              <a:rPr b="1" lang="tt-RU" sz="3000" spc="-1" strike="noStrike">
                <a:solidFill>
                  <a:srgbClr val="0000ff"/>
                </a:solidFill>
                <a:latin typeface="Monotype Corsiva"/>
              </a:rPr>
              <a:t>учре</a:t>
            </a:r>
            <a:r>
              <a:rPr b="1" lang="ru-RU" sz="3000" spc="-1" strike="noStrike">
                <a:solidFill>
                  <a:srgbClr val="0000ff"/>
                </a:solidFill>
                <a:latin typeface="Monotype Corsiva"/>
              </a:rPr>
              <a:t>ж</a:t>
            </a:r>
            <a:r>
              <a:rPr b="1" lang="tt-RU" sz="3000" spc="-1" strike="noStrike">
                <a:solidFill>
                  <a:srgbClr val="0000ff"/>
                </a:solidFill>
                <a:latin typeface="Monotype Corsiva"/>
              </a:rPr>
              <a:t>д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-210960" y="115920"/>
            <a:ext cx="97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Результаты выполнения заданий по райо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Диаграмма 3" descr=""/>
          <p:cNvPicPr/>
          <p:nvPr/>
        </p:nvPicPr>
        <p:blipFill>
          <a:blip r:embed="rId1"/>
          <a:stretch/>
        </p:blipFill>
        <p:spPr>
          <a:xfrm>
            <a:off x="609480" y="981000"/>
            <a:ext cx="821052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179280" y="765000"/>
          <a:ext cx="8640720" cy="5472360"/>
        </p:xfrm>
        <a:graphic>
          <a:graphicData uri="http://schemas.openxmlformats.org/drawingml/2006/table">
            <a:tbl>
              <a:tblPr/>
              <a:tblGrid>
                <a:gridCol w="2509920"/>
                <a:gridCol w="592200"/>
                <a:gridCol w="677880"/>
                <a:gridCol w="593640"/>
                <a:gridCol w="592200"/>
                <a:gridCol w="593640"/>
                <a:gridCol w="592200"/>
                <a:gridCol w="593640"/>
                <a:gridCol w="593640"/>
                <a:gridCol w="592200"/>
                <a:gridCol w="709560"/>
              </a:tblGrid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рхнеуслонская шко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рхнеуслонская гимназ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тюшин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Не участвова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бережно-Моркваш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Не участвова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еланг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ктябрь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ул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рал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ольшемемин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Не участвова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9" name="Rectangle 263"/>
          <p:cNvSpPr/>
          <p:nvPr/>
        </p:nvSpPr>
        <p:spPr>
          <a:xfrm>
            <a:off x="-151200" y="115920"/>
            <a:ext cx="98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Результаты выполнения заданий по ОУ (в 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03T19:00:41Z</dcterms:created>
  <dc:creator>Admin</dc:creator>
  <dc:description/>
  <dc:language>en-US</dc:language>
  <cp:lastModifiedBy>Нина Хайруллина</cp:lastModifiedBy>
  <dcterms:modified xsi:type="dcterms:W3CDTF">2022-04-19T16:48:08Z</dcterms:modified>
  <cp:revision>94</cp:revision>
  <dc:subject/>
  <dc:title>    Результаты  пробного экзамена по математике в 11классе, проведенного 29 декабря 20145года</dc:title>
</cp:coreProperties>
</file>